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87A-04C2-4985-9FAE-A17A3BB5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C45-7C4D-4B56-B439-9B6B60D1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C11-1521-4025-B67D-6BDDB67C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2BB-5DF5-4485-80C1-ECEDE51A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FD0-49EC-4B1F-AA46-E5EA1DDA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B83-290E-4669-8BEE-82B8FDAC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0BA-13D9-4FD7-BA2A-AA9F52DF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9AE-9A52-4E59-8E50-1786F660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AFB-6BF5-4A53-804D-B433D992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F29-C541-4F9A-9D5A-34FD7099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9B0-8922-495A-A3EA-9098398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AA8-99BB-42AF-A34A-6896AEA4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6622-FEA4-4FA0-90C2-71BF76FF206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9EB2-D2A7-421E-870F-479D3B7DF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едеральный закон от 05.04.2013 № 44-ФЗ «О контрактной системе в сфере закупок товаров, работ, услуг для обеспечения государственных и муниципальных нужд»</a:t>
            </a:r>
            <a:br>
              <a:rPr sz="2800"/>
            </a:b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Основные новации Закона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1698-D1ED-4097-805B-B8BDC8EFED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трелка вправо 5"/>
          <p:cNvSpPr/>
          <p:nvPr/>
        </p:nvSpPr>
        <p:spPr>
          <a:xfrm>
            <a:off x="0" y="476280"/>
            <a:ext cx="928800" cy="7142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одержание единой информацион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9" descr=""/>
          <p:cNvPicPr/>
          <p:nvPr/>
        </p:nvPicPr>
        <p:blipFill>
          <a:blip r:embed="rId1"/>
          <a:stretch/>
        </p:blipFill>
        <p:spPr>
          <a:xfrm>
            <a:off x="401760" y="1420920"/>
            <a:ext cx="8340480" cy="4645080"/>
          </a:xfrm>
          <a:prstGeom prst="rect">
            <a:avLst/>
          </a:prstGeom>
          <a:ln w="0">
            <a:noFill/>
          </a:ln>
        </p:spPr>
      </p:pic>
      <p:sp>
        <p:nvSpPr>
          <p:cNvPr id="11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F80B-4BD3-4CBC-803C-29B90ECB4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7"/>
          <p:cNvSpPr/>
          <p:nvPr/>
        </p:nvSpPr>
        <p:spPr>
          <a:xfrm>
            <a:off x="0" y="260280"/>
            <a:ext cx="928800" cy="7146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лементы контрактной системы в Моск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ционная система – Единая автоматизированная система управления закупками (ЕАСУ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олномоченный орган для централизации закуп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нирование (планы закупок, планы-графики закупок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оль за исполнением контрактов (контроль применения штрафных санкци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иторинг закуп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рганах власти закреплены лица, ответственные за осуществление закупо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4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ЕАСУЗ создан блок для муниципальных заказчиков (при закупках за счет средств бюджета Московской обла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право 8"/>
          <p:cNvSpPr/>
          <p:nvPr/>
        </p:nvSpPr>
        <p:spPr>
          <a:xfrm>
            <a:off x="0" y="333360"/>
            <a:ext cx="928800" cy="7142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Главные цели Зак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0311-8618-4A27-BA5D-509525E9E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2679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ие эффективности, результативности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гласности и прозрачности осуществления таких закуп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твращение коррупции и других злоупотреблений в сфере закуп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трелка вправо 5"/>
          <p:cNvSpPr/>
          <p:nvPr/>
        </p:nvSpPr>
        <p:spPr>
          <a:xfrm>
            <a:off x="0" y="333360"/>
            <a:ext cx="928800" cy="7142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119160" y="1125360"/>
            <a:ext cx="902484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анковское сопровождение контра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щитные механиз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едоставление обеспечения исполнения контракта, увеличенное в 1,5 раза, при снижении цены более чем на 25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боснование предлагаемой участником закупки цены контракта при снижении цены более чем на 25 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влечение экспертов на этапе приемки работ по контрак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информации о выгодоприобретателях при цене контракта свыше 1 млрд.руб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информации о соисполнителях при цене контракта свыше 1 млрд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3. Создание контрактных служб, назначение контрактных управляющ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4. Уполномоченные банки по выдаче банковских гаран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5. Наличие финансовых ресурсов, оборудования и деловая репу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695960" y="189000"/>
            <a:ext cx="628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Arial"/>
              </a:rPr>
              <a:t>Ключевые новации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6"/>
          <p:cNvSpPr/>
          <p:nvPr/>
        </p:nvSpPr>
        <p:spPr>
          <a:xfrm>
            <a:off x="0" y="189000"/>
            <a:ext cx="928800" cy="7142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инципы контрактной системы в сфере закупо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2487-6701-4053-BF76-ACB6869BA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5"/>
          <p:cNvSpPr/>
          <p:nvPr/>
        </p:nvSpPr>
        <p:spPr>
          <a:xfrm>
            <a:off x="0" y="260280"/>
            <a:ext cx="928800" cy="7146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1280" y="1844640"/>
            <a:ext cx="2376360" cy="17848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крытость и прозра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348000" y="1125360"/>
            <a:ext cx="2376360" cy="17200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к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вышение количества участников торгов, равные условия для участников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012000" y="1989000"/>
            <a:ext cx="2447640" cy="164376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фессионализм заказ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(повышение квалификации специалистов, профессиональное образование в сфере торг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11280" y="3933720"/>
            <a:ext cx="2376360" cy="14734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сональная ответственность руководителей за осуществление закуп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348000" y="3068640"/>
            <a:ext cx="2376360" cy="14580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ответствие результатов закупки её цел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012000" y="3933720"/>
            <a:ext cx="2447640" cy="17053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динство контрактн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единые подходы к осуществлению закуп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3348000" y="4724280"/>
            <a:ext cx="2376360" cy="194724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имулирование иннов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Проблема: С 2015 г. планируется установить удельный вес закупок инновационной продукции. На федеральном уровне не установлены признаки инновацион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58"/>
          <p:cNvSpPr/>
          <p:nvPr/>
        </p:nvSpPr>
        <p:spPr>
          <a:xfrm>
            <a:off x="324000" y="1341360"/>
            <a:ext cx="4968720" cy="46800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Формирование единого цикла обеспечения       государственных (муниципальных) нужд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80000" y="2133360"/>
            <a:ext cx="311472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о контрактной системе – все этапы закупки от планирования до исполнения конт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№ 94-ФЗ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змещ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680D-3141-4315-93C4-0E4C9C6EE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6"/>
          <p:cNvSpPr/>
          <p:nvPr/>
        </p:nvSpPr>
        <p:spPr>
          <a:xfrm>
            <a:off x="0" y="476280"/>
            <a:ext cx="928800" cy="7142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2411280" y="2133720"/>
            <a:ext cx="0" cy="2950920"/>
          </a:xfrm>
          <a:prstGeom prst="line">
            <a:avLst/>
          </a:prstGeom>
          <a:ln w="507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2411280" y="2133720"/>
            <a:ext cx="0" cy="2950920"/>
          </a:xfrm>
          <a:prstGeom prst="line">
            <a:avLst/>
          </a:prstGeom>
          <a:ln w="507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2987640" y="5229360"/>
            <a:ext cx="58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удит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анализ результатов закуп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-оценка степени достижения целей осуществления закупок, оценка обоснованности закуп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(целей, объемов, цен закуп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3"/>
          <p:cNvGraphicFramePr/>
          <p:nvPr/>
        </p:nvGraphicFramePr>
        <p:xfrm>
          <a:off x="539640" y="1844640"/>
          <a:ext cx="4515120" cy="366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4515120" cy="36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13"/>
          <p:cNvSpPr/>
          <p:nvPr/>
        </p:nvSpPr>
        <p:spPr>
          <a:xfrm>
            <a:off x="1476360" y="292428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ланирование закуп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2916360" y="2781360"/>
            <a:ext cx="9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азмещ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2916360" y="414972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сполнение контра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476360" y="4005360"/>
            <a:ext cx="12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иемка результатов исполнения контра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 rot="10539000">
            <a:off x="2555640" y="3715920"/>
            <a:ext cx="501480" cy="284400"/>
          </a:xfrm>
          <a:custGeom>
            <a:avLst/>
            <a:gdLst>
              <a:gd name="textAreaLeft" fmla="*/ 73440 w 501480"/>
              <a:gd name="textAreaRight" fmla="*/ 428040 w 501480"/>
              <a:gd name="textAreaTop" fmla="*/ 41400 h 284400"/>
              <a:gd name="textAreaBottom" fmla="*/ 243000 h 2844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093" y="5399"/>
                  <a:pt x="5805" y="7403"/>
                  <a:pt x="5447" y="10086"/>
                </a:cubicBezTo>
                <a:lnTo>
                  <a:pt x="94" y="9372"/>
                </a:lnTo>
                <a:cubicBezTo>
                  <a:pt x="810" y="4006"/>
                  <a:pt x="5387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7"/>
          <p:cNvSpPr/>
          <p:nvPr/>
        </p:nvSpPr>
        <p:spPr>
          <a:xfrm>
            <a:off x="2556000" y="3357720"/>
            <a:ext cx="504720" cy="287280"/>
          </a:xfrm>
          <a:custGeom>
            <a:avLst/>
            <a:gdLst>
              <a:gd name="textAreaLeft" fmla="*/ 73800 w 504720"/>
              <a:gd name="textAreaRight" fmla="*/ 430920 w 50472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942" y="5399"/>
                  <a:pt x="5579" y="7626"/>
                  <a:pt x="5409" y="10478"/>
                </a:cubicBezTo>
                <a:lnTo>
                  <a:pt x="19" y="10157"/>
                </a:lnTo>
                <a:cubicBezTo>
                  <a:pt x="359" y="4452"/>
                  <a:pt x="5084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9"/>
          <p:cNvSpPr/>
          <p:nvPr/>
        </p:nvSpPr>
        <p:spPr>
          <a:xfrm rot="1942200">
            <a:off x="2842200" y="19886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4-Ф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53"/>
          <p:cNvSpPr/>
          <p:nvPr/>
        </p:nvSpPr>
        <p:spPr>
          <a:xfrm>
            <a:off x="2771640" y="2060640"/>
            <a:ext cx="1656000" cy="16556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959" h="998">
                <a:moveTo>
                  <a:pt x="0" y="0"/>
                </a:moveTo>
                <a:cubicBezTo>
                  <a:pt x="117" y="11"/>
                  <a:pt x="234" y="23"/>
                  <a:pt x="317" y="46"/>
                </a:cubicBezTo>
                <a:cubicBezTo>
                  <a:pt x="400" y="69"/>
                  <a:pt x="439" y="98"/>
                  <a:pt x="499" y="136"/>
                </a:cubicBezTo>
                <a:cubicBezTo>
                  <a:pt x="559" y="174"/>
                  <a:pt x="627" y="219"/>
                  <a:pt x="680" y="272"/>
                </a:cubicBezTo>
                <a:cubicBezTo>
                  <a:pt x="733" y="325"/>
                  <a:pt x="778" y="394"/>
                  <a:pt x="816" y="454"/>
                </a:cubicBezTo>
                <a:cubicBezTo>
                  <a:pt x="854" y="514"/>
                  <a:pt x="884" y="574"/>
                  <a:pt x="907" y="635"/>
                </a:cubicBezTo>
                <a:cubicBezTo>
                  <a:pt x="930" y="696"/>
                  <a:pt x="945" y="756"/>
                  <a:pt x="952" y="817"/>
                </a:cubicBezTo>
                <a:cubicBezTo>
                  <a:pt x="959" y="878"/>
                  <a:pt x="955" y="938"/>
                  <a:pt x="952" y="99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4427640" y="350028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7"/>
          <p:cNvSpPr/>
          <p:nvPr/>
        </p:nvSpPr>
        <p:spPr>
          <a:xfrm>
            <a:off x="2771640" y="1268280"/>
            <a:ext cx="0" cy="39610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6"/>
          <p:cNvSpPr/>
          <p:nvPr/>
        </p:nvSpPr>
        <p:spPr>
          <a:xfrm>
            <a:off x="1258920" y="3716280"/>
            <a:ext cx="3384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7"/>
          <p:cNvSpPr/>
          <p:nvPr/>
        </p:nvSpPr>
        <p:spPr>
          <a:xfrm>
            <a:off x="4067280" y="2060640"/>
            <a:ext cx="15112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ниторинг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нтроль за правильным проведением торг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826920" y="47242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4-Ф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1"/>
          <p:cNvSpPr/>
          <p:nvPr/>
        </p:nvSpPr>
        <p:spPr>
          <a:xfrm>
            <a:off x="2556000" y="1341360"/>
            <a:ext cx="21564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ланирование закуп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280" y="981000"/>
            <a:ext cx="8472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менты планирования закупо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ы закуп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ы-граф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324000" y="2276640"/>
            <a:ext cx="3600360" cy="3456000"/>
          </a:xfrm>
          <a:prstGeom prst="rect">
            <a:avLst/>
          </a:prstGeom>
          <a:solidFill>
            <a:srgbClr val="6573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заку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идентификационный код закуп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осуществления закуп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именование объекта и описание объекта, объем закупаемых товара, работы ил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бъем финансового обеспечения для осуществления закуп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роки (периодичность) осуществления планируемых закуп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обоснование закуп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 о закупках товаров, работ, услуг, которые способны поставить, выполнить, оказать только поставщики (подрядчики, исполнители), имеющие необходимый уровень квалифик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 об обязательном общественном обсуждении закуп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4284720" y="2276640"/>
            <a:ext cx="4537080" cy="3889080"/>
          </a:xfrm>
          <a:prstGeom prst="rect">
            <a:avLst/>
          </a:prstGeom>
          <a:solidFill>
            <a:srgbClr val="6573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-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) идентификационный код закупк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) наименование и описание объекта закупки, объем закупаемых товара, работы или услуг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сроки, периодичность поставки товара, выполнения работы или оказания услуг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начальная (максимальная) цена контракт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5) обоснование закупки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мер аванса (если предусмотрена выплата аванса);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этапы оплаты (если исполнение контракта и его оплата предусмотрены поэтапно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дополнительные требования к участникам закупки и обоснование таких требований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способ определения поставщика и обоснование выбора этого способ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0)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дата начала закупк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1)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 о размере предоставляемых обеспечения заявки участника закупки и обеспечения исполнения контракт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2)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 о применении критерия стоимости жизненного цикла товара или созданного в результате выполнения работы объект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2)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 о банковском сопровождении контракт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020000" y="191628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559640" y="170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право 7"/>
          <p:cNvSpPr/>
          <p:nvPr/>
        </p:nvSpPr>
        <p:spPr>
          <a:xfrm>
            <a:off x="0" y="189000"/>
            <a:ext cx="928800" cy="7142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асширение перечня допустимых способов тор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63280" y="1268280"/>
            <a:ext cx="69836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крытый конкур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рытый конкур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укцион в электронной форм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рытый аукцио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 котиров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единственного поставщ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прос предложений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откая процедура. Позволяет в ряде случаев быстро закупить необходимую продукцию (например, закупить лекарства для пациента, быстро возобновить работы при расторжении контракта с предыдущим исполнителе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вухэтапный конкурс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ведении научных исследований, выполнении проектных работ позволяет обсудить характеристики закупаемого объекта с участниками и уточнить его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курс с ограниченным участием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закупке специализированной, инновационной технически сложной продукц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выбрать победителя из числа лиц, имеющих необходимый уровень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ытый двухэтапный конкур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ытый конкурс с ограниченным участи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9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39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A67E-19E7-4757-A13E-7CE4CEEBC8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право 9"/>
          <p:cNvSpPr/>
          <p:nvPr/>
        </p:nvSpPr>
        <p:spPr>
          <a:xfrm>
            <a:off x="0" y="115920"/>
            <a:ext cx="928800" cy="7142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124000" y="13413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50920" y="191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4-ФЗ и 44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2195640" y="2924280"/>
            <a:ext cx="72720" cy="2376360"/>
          </a:xfrm>
          <a:custGeom>
            <a:avLst/>
            <a:gdLst>
              <a:gd name="textAreaLeft" fmla="*/ 46440 w 72720"/>
              <a:gd name="textAreaRight" fmla="*/ 73080 w 7272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95280" y="393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Только 44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3"/>
          <p:cNvSpPr/>
          <p:nvPr/>
        </p:nvSpPr>
        <p:spPr>
          <a:xfrm>
            <a:off x="6659640" y="170028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1979640" y="170028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042920" y="1341360"/>
            <a:ext cx="2089080" cy="368280"/>
          </a:xfrm>
          <a:prstGeom prst="rect">
            <a:avLst/>
          </a:prstGeom>
          <a:solidFill>
            <a:srgbClr val="c0504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4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95280" y="2205000"/>
            <a:ext cx="3889440" cy="2927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функциональные характеристики (потребительские свойства) или качественные характеристики това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качество работ, услуг и (или) квалификация участника конк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ходы на эксплуатацию това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расходы на техническое обслуживание това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6) сроки (периоды) поставки товара, выполнения работ, оказания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) срок предоставления гарантии качества товара, работ,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8) объем предоставления гарантий качества товара, работ,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651640" y="1341360"/>
            <a:ext cx="2089080" cy="368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4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4859280" y="2205000"/>
            <a:ext cx="3889440" cy="3014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ц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сходы на эксплуатацию и ремонт товаров, использование результатов рабо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качественные, функциональные и экологические характеристики объекта закуп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квалификация участников закупки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том числе наличие у них финансовых ресурсов, на праве собственности или ином законном основании оборудования и других материальных ресурсов, опыта работы, связанного с предметом контракта, и деловой репутации, специалистов и иных работников определенного уровня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1476360" y="189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Критерии оценки зая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9"/>
          <p:cNvSpPr/>
          <p:nvPr/>
        </p:nvSpPr>
        <p:spPr>
          <a:xfrm>
            <a:off x="0" y="115920"/>
            <a:ext cx="928800" cy="7142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Исполнение контракт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000" y="692280"/>
            <a:ext cx="800244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31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кон обязывает заказчиков более тщательно подходить к контролю за исполнение контра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1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ставленного товара, результатов работы, оказанной услуг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1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именения заказчиком штрафных санкций к поставщи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1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ответствия результата исполнения контракта условиям контра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1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воевременности, полноты и достоверности отражения в документах учета результатов исполнения контра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1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ответствия использования результатов исполнения контракта целям осуществления закуп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1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1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1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1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3DED-E46C-48B6-80E2-460611F2B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6"/>
          <p:cNvSpPr/>
          <p:nvPr/>
        </p:nvSpPr>
        <p:spPr>
          <a:xfrm>
            <a:off x="0" y="189000"/>
            <a:ext cx="928800" cy="7142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9:36:58Z</dcterms:created>
  <dc:creator>Галкин Алексей Александрович</dc:creator>
  <dc:description/>
  <dc:language>en-US</dc:language>
  <cp:lastModifiedBy>AIS_USER_3</cp:lastModifiedBy>
  <dcterms:modified xsi:type="dcterms:W3CDTF">2013-11-19T12:55:44Z</dcterms:modified>
  <cp:revision>72</cp:revision>
  <dc:subject/>
  <dc:title>Первые итоги работы официального сайта www.zakupki.gov.ru  после 1 октября 2012 года</dc:title>
</cp:coreProperties>
</file>